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gif" ContentType="image/gif"/>
  <Override PartName="/ppt/media/image10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4D1-1FD4-4F8B-ADFA-A44CE49A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5388-774C-4C74-B5E9-B5E50A0E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3A3F-99B5-418B-9F86-98286AAC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C2B-955C-4CAE-A0F0-D49F8564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9D09-F64E-4F20-8CED-DF001780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65E9-1CB9-4475-AAEF-AE9457D3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8CF0-D76C-407A-83DE-54FBC2D3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0B69-E798-4966-9618-8864A992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64AA-92F5-4F78-AB5A-936DA0E6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D9F2-92AB-49BB-9120-2F9549A4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0C72-53C7-4ACD-B03C-13651B0C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C460-5DD8-421C-BCBF-1B7FC854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04BB-32BA-457D-B5B1-615D93FE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40FA-ACB4-4841-A6E2-D6DA565C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4200-4212-43A5-9EB7-547B1EA7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AE97-CDF2-443E-B8F3-F223C7BE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8DE3-488A-4224-8CDC-486D625E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C3A9-7A05-4891-8F4F-21E53219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790C-BD56-4C32-973A-A17F4713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2E10-6F1C-46FD-AC86-37B037C3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142B-4D4B-4243-B79A-83B5A072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7CEF-0604-4B18-BE41-252E32FF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B28-9905-4C89-BE20-E55FB0A8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028-71EE-4DE4-BAB7-5158AC1E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A14D-AD61-440B-BDF3-F44715B80BD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1314-E0A2-4E80-A542-85EB92391776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hyperlink" Target="file:///trou5.htm" TargetMode="External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cross4.htm" TargetMode="External"/><Relationship Id="rId3" Type="http://schemas.openxmlformats.org/officeDocument/2006/relationships/hyperlink" Target="file:///cross4.htm" TargetMode="External"/><Relationship Id="rId4" Type="http://schemas.openxmlformats.org/officeDocument/2006/relationships/hyperlink" Target="file:///cross4.htm" TargetMode="External"/><Relationship Id="rId5" Type="http://schemas.openxmlformats.org/officeDocument/2006/relationships/hyperlink" Target="file:///cross4.htm" TargetMode="External"/><Relationship Id="rId6" Type="http://schemas.openxmlformats.org/officeDocument/2006/relationships/image" Target="../media/image3.png"/><Relationship Id="rId7" Type="http://schemas.openxmlformats.org/officeDocument/2006/relationships/hyperlink" Target="file:///analyse.htm" TargetMode="External"/><Relationship Id="rId8" Type="http://schemas.openxmlformats.org/officeDocument/2006/relationships/image" Target="../media/image3.png"/><Relationship Id="rId9" Type="http://schemas.openxmlformats.org/officeDocument/2006/relationships/hyperlink" Target="file:///dejeuner.htm" TargetMode="External"/><Relationship Id="rId10" Type="http://schemas.openxmlformats.org/officeDocument/2006/relationships/hyperlink" Target="file:///dejeuner.htm" TargetMode="External"/><Relationship Id="rId11" Type="http://schemas.openxmlformats.org/officeDocument/2006/relationships/hyperlink" Target="file:///dejeuner.htm" TargetMode="External"/><Relationship Id="rId12" Type="http://schemas.openxmlformats.org/officeDocument/2006/relationships/hyperlink" Target="file:///dejeuner.htm" TargetMode="External"/><Relationship Id="rId13" Type="http://schemas.openxmlformats.org/officeDocument/2006/relationships/hyperlink" Target="file:///dejeuner.htm" TargetMode="External"/><Relationship Id="rId14" Type="http://schemas.openxmlformats.org/officeDocument/2006/relationships/hyperlink" Target="file:///dejeuner.htm" TargetMode="External"/><Relationship Id="rId15" Type="http://schemas.openxmlformats.org/officeDocument/2006/relationships/hyperlink" Target="file:///dejeuner.htm" TargetMode="External"/><Relationship Id="rId16" Type="http://schemas.openxmlformats.org/officeDocument/2006/relationships/hyperlink" Target="file:///dejeuner.htm" TargetMode="External"/><Relationship Id="rId17" Type="http://schemas.openxmlformats.org/officeDocument/2006/relationships/hyperlink" Target="file:///dejeuner.htm" TargetMode="External"/><Relationship Id="rId18" Type="http://schemas.openxmlformats.org/officeDocument/2006/relationships/hyperlink" Target="file:///dejeuner.htm" TargetMode="External"/><Relationship Id="rId19" Type="http://schemas.openxmlformats.org/officeDocument/2006/relationships/hyperlink" Target="file:///dejeuner.htm" TargetMode="External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repchoix3.htm" TargetMode="External"/><Relationship Id="rId3" Type="http://schemas.openxmlformats.org/officeDocument/2006/relationships/image" Target="../media/image3.png"/><Relationship Id="rId4" Type="http://schemas.openxmlformats.org/officeDocument/2006/relationships/hyperlink" Target="file:///pre72.htm" TargetMode="External"/><Relationship Id="rId5" Type="http://schemas.openxmlformats.org/officeDocument/2006/relationships/image" Target="../media/image3.png"/><Relationship Id="rId6" Type="http://schemas.openxmlformats.org/officeDocument/2006/relationships/hyperlink" Target="file:///pre73.htm" TargetMode="External"/><Relationship Id="rId7" Type="http://schemas.openxmlformats.org/officeDocument/2006/relationships/image" Target="../media/image3.png"/><Relationship Id="rId8" Type="http://schemas.openxmlformats.org/officeDocument/2006/relationships/hyperlink" Target="file:///pre74.htm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7d47d"/>
                </a:solidFill>
                <a:uFillTx/>
                <a:latin typeface="Arial"/>
              </a:rPr>
              <a:t>Jacques Prévert, Déjeuner du matin</a:t>
            </a: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95400" y="2570040"/>
            <a:ext cx="2152440" cy="25527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564080" y="2373480"/>
            <a:ext cx="25527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7d47d"/>
                </a:solidFill>
                <a:latin typeface="Arial"/>
              </a:rPr>
              <a:t>Révision des verbes irréguliers du poèm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Mettre, je met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j’ai m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Boire, il boi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il a bu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Faire, vous fait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vous avez fai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Prendre, ils prennent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ils ont pr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0b854"/>
                </a:solidFill>
                <a:uFillTx/>
                <a:latin typeface="Arial"/>
                <a:ea typeface="Arial"/>
                <a:hlinkClick r:id="rId10"/>
              </a:rPr>
              <a:t>Exercice 5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  <a:ea typeface="Arial"/>
              </a:rPr>
              <a:t>(fiche pédagogiqu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Les mots-croisé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Jeu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 pour deux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équipes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5"/>
              </a:rPr>
              <a:t>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7"/>
              </a:rPr>
              <a:t>Interprétatio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9"/>
              </a:rPr>
              <a:t>Les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0"/>
              </a:rPr>
              <a:t>sites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1"/>
              </a:rPr>
              <a:t>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2"/>
              </a:rPr>
              <a:t>internet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3"/>
              </a:rPr>
              <a:t>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4"/>
              </a:rPr>
              <a:t>sur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5"/>
              </a:rPr>
              <a:t>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6"/>
              </a:rPr>
              <a:t>Prévert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7"/>
              </a:rPr>
              <a:t> à faire à la 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8"/>
              </a:rPr>
              <a:t>maison</a:t>
            </a:r>
            <a:r>
              <a:rPr b="0" lang="de-DE" sz="2800" spc="-1" strike="noStrike" u="sng">
                <a:solidFill>
                  <a:srgbClr val="f0b854"/>
                </a:solidFill>
                <a:uFillTx/>
                <a:latin typeface="Arial"/>
                <a:hlinkClick r:id="rId19"/>
              </a:rPr>
              <a:t>!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dc893e"/>
                </a:solidFill>
                <a:uFillTx/>
                <a:latin typeface="Arial"/>
              </a:rPr>
              <a:t>Devoir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A) Finissez les mots-croisés à la maison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2f1311"/>
                </a:solidFill>
                <a:latin typeface="Arial"/>
              </a:rPr>
              <a:t>B) La femme est partie chez une amie et écrit une lettre à son mari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2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2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7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d47d"/>
                </a:solidFill>
                <a:uFillTx/>
                <a:latin typeface="Arial"/>
              </a:rPr>
              <a:t>Jacques Prévert, Déjeuner du matin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d47d"/>
                </a:solidFill>
                <a:latin typeface="Arial"/>
              </a:rPr>
              <a:t>Qu’est-ce que c’est 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d47d"/>
                </a:solidFill>
                <a:latin typeface="Arial"/>
              </a:rPr>
              <a:t>C’est 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du café / le café (au lait)      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la tasse / une tasse (de café) (au lait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du sucre / le suc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du lait / le lai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e petite cuiller /</a:t>
            </a:r>
            <a:r>
              <a:rPr b="0" lang="fr-FR" sz="3200" spc="-1" strike="noStrike" u="sng">
                <a:solidFill>
                  <a:srgbClr val="2f1311"/>
                </a:solidFill>
                <a:uFillTx/>
                <a:latin typeface="Arial"/>
              </a:rPr>
              <a:t>cuillère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 / la cuillèr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7d47d"/>
                </a:solidFill>
                <a:uFillTx/>
                <a:latin typeface="Arial"/>
              </a:rPr>
              <a:t>Jacques Prévert, Déjeuner du matin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e cigarett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 cendri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 chapeau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un manteau de plui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Les activité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mettre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tourner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boire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reposer la tasse                       </a:t>
            </a: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5051520" y="2971800"/>
            <a:ext cx="1579320" cy="1749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Les activité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allumer  (une cigarette)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faire des ronds avec la fumée             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mettre les cendre(s) de cigarett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78880" indent="-5788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dans un cendri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4964040" y="3056040"/>
            <a:ext cx="1752840" cy="157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7d47d"/>
                </a:solidFill>
                <a:latin typeface="Arial"/>
              </a:rPr>
              <a:t>Les activité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se lev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mettre le chapeau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mettre le manteau de plui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parti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5265720" y="3354480"/>
            <a:ext cx="1152720" cy="98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7d47d"/>
                </a:solidFill>
                <a:latin typeface="Arial"/>
              </a:rPr>
              <a:t>Les activité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prendre la tête dans sa mai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f1311"/>
                </a:solidFill>
                <a:latin typeface="Arial"/>
              </a:rPr>
              <a:t>pleur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878360" y="3013200"/>
            <a:ext cx="1922400" cy="16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7d47d"/>
                </a:solidFill>
                <a:latin typeface="Arial"/>
              </a:rPr>
              <a:t>Exercice d‘associ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fr-FR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Exercice 1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f1311"/>
                </a:solidFill>
                <a:latin typeface="Arial"/>
              </a:rPr>
              <a:t>(exercice d’association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3200" spc="-1" strike="noStrike" u="sng">
                <a:solidFill>
                  <a:srgbClr val="f0b854"/>
                </a:solidFill>
                <a:uFillTx/>
                <a:latin typeface="Arial"/>
                <a:ea typeface="Arial"/>
                <a:hlinkClick r:id="rId4"/>
              </a:rPr>
              <a:t>Exercice 2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fr-FR" sz="2400" spc="-1" strike="noStrike">
                <a:solidFill>
                  <a:srgbClr val="2f1311"/>
                </a:solidFill>
                <a:latin typeface="Arial"/>
                <a:ea typeface="Arial"/>
              </a:rPr>
              <a:t>(Mettez dans l’ordr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3200" spc="-1" strike="noStrike" u="sng">
                <a:solidFill>
                  <a:srgbClr val="f0b854"/>
                </a:solidFill>
                <a:uFillTx/>
                <a:latin typeface="Arial"/>
                <a:ea typeface="Arial"/>
                <a:hlinkClick r:id="rId6"/>
              </a:rPr>
              <a:t>Exercice 3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3200" spc="-1" strike="noStrike" u="sng">
                <a:solidFill>
                  <a:srgbClr val="f0b854"/>
                </a:solidFill>
                <a:uFillTx/>
                <a:latin typeface="Arial"/>
                <a:ea typeface="Arial"/>
                <a:hlinkClick r:id="rId8"/>
              </a:rPr>
              <a:t>Exercice 4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9"/>
          <a:stretch/>
        </p:blipFill>
        <p:spPr>
          <a:xfrm>
            <a:off x="5051520" y="2971800"/>
            <a:ext cx="1579320" cy="1749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7d47d"/>
                </a:solidFill>
                <a:latin typeface="Arial"/>
              </a:rPr>
              <a:t>Mettez le poème au </a:t>
            </a:r>
            <a:br>
              <a:rPr sz="3600"/>
            </a:br>
            <a:r>
              <a:rPr b="0" lang="de-DE" sz="3600" spc="-1" strike="noStrike">
                <a:solidFill>
                  <a:srgbClr val="f7d47d"/>
                </a:solidFill>
                <a:latin typeface="Arial"/>
              </a:rPr>
              <a:t>passé composé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Révis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Infinitif du verbe „être“ ou „avoir“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+ participe passé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Exemple: mettre – mis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je mets le café dans la tas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→ </a:t>
            </a:r>
            <a:r>
              <a:rPr b="0" lang="fr-FR" sz="3200" spc="-1" strike="noStrike">
                <a:solidFill>
                  <a:srgbClr val="2f1311"/>
                </a:solidFill>
                <a:latin typeface="Arial"/>
                <a:ea typeface="Arial"/>
              </a:rPr>
              <a:t>j’ai mis le café dans la tass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8T18:21:50Z</dcterms:created>
  <dc:creator>user1</dc:creator>
  <dc:description/>
  <dc:language>en-US</dc:language>
  <cp:lastModifiedBy>user1</cp:lastModifiedBy>
  <dcterms:modified xsi:type="dcterms:W3CDTF">2003-12-05T15:45:07Z</dcterms:modified>
  <cp:revision>25</cp:revision>
  <dc:subject/>
  <dc:title>Jacques Prévert, Déjeuner du matin </dc:title>
</cp:coreProperties>
</file>