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A50-5C6C-43DE-A0FD-EA365139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9C8-3010-49BA-BAF3-9189F88C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7C0-9E87-469B-AF69-B2DEE7EF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FBB-C7FE-4ABF-9A38-F94BAFC5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57DF-B245-4FB8-B2C2-771B4B7A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9F20-F067-45DC-A923-F714584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BD0-C606-46A9-A9F3-4B03E10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715-1E93-49D8-9E3D-C55C4DE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B6A3-8160-442C-977A-F5E25382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1B0E-5813-4F21-BB69-0E8CA847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6047-97F2-491A-A14B-BF33B42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938-4E52-49A1-9B43-136DB24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504-0D21-44F1-A515-354BCD0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E918-4775-4F13-B937-A5AE7CA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6F61-C3AC-42DE-A573-689248DC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4B1A-CA4F-40EB-8C8E-8B35C888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0800-ABB6-40C8-AC1E-B78632A3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67E-19EB-4CFD-A7DD-32B5E07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7F4-47C6-4750-ABF1-B61EC7AE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EE5-D191-4645-A559-4FEE68C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539-E240-4817-8017-1295D8A1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EFE-4DD1-49E6-8EE0-E1637C0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C9-A187-41F8-8167-760D1505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202-228F-4C01-B5D5-C06FF63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6C41-E16E-4543-AC14-6CAC01E58DF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B98-91CA-4C6A-846B-AF9492A63D1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file:///trou5.htm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ross4.htm" TargetMode="External"/><Relationship Id="rId3" Type="http://schemas.openxmlformats.org/officeDocument/2006/relationships/hyperlink" Target="file:///cross4.htm" TargetMode="External"/><Relationship Id="rId4" Type="http://schemas.openxmlformats.org/officeDocument/2006/relationships/hyperlink" Target="file:///cross4.htm" TargetMode="External"/><Relationship Id="rId5" Type="http://schemas.openxmlformats.org/officeDocument/2006/relationships/hyperlink" Target="file:///cross4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analyse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dejeuner.htm" TargetMode="External"/><Relationship Id="rId10" Type="http://schemas.openxmlformats.org/officeDocument/2006/relationships/hyperlink" Target="file:///dejeuner.htm" TargetMode="External"/><Relationship Id="rId11" Type="http://schemas.openxmlformats.org/officeDocument/2006/relationships/hyperlink" Target="file:///dejeuner.htm" TargetMode="External"/><Relationship Id="rId12" Type="http://schemas.openxmlformats.org/officeDocument/2006/relationships/hyperlink" Target="file:///dejeuner.htm" TargetMode="External"/><Relationship Id="rId13" Type="http://schemas.openxmlformats.org/officeDocument/2006/relationships/hyperlink" Target="file:///dejeuner.htm" TargetMode="External"/><Relationship Id="rId14" Type="http://schemas.openxmlformats.org/officeDocument/2006/relationships/hyperlink" Target="file:///dejeuner.htm" TargetMode="External"/><Relationship Id="rId15" Type="http://schemas.openxmlformats.org/officeDocument/2006/relationships/hyperlink" Target="file:///dejeuner.htm" TargetMode="External"/><Relationship Id="rId16" Type="http://schemas.openxmlformats.org/officeDocument/2006/relationships/hyperlink" Target="file:///dejeuner.htm" TargetMode="External"/><Relationship Id="rId17" Type="http://schemas.openxmlformats.org/officeDocument/2006/relationships/hyperlink" Target="file:///dejeuner.htm" TargetMode="External"/><Relationship Id="rId18" Type="http://schemas.openxmlformats.org/officeDocument/2006/relationships/hyperlink" Target="file:///dejeuner.htm" TargetMode="External"/><Relationship Id="rId19" Type="http://schemas.openxmlformats.org/officeDocument/2006/relationships/hyperlink" Target="file:///dejeuner.htm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pchoix3.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pre72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pre7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pre74.htm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5400" y="2570040"/>
            <a:ext cx="215244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4080" y="2373480"/>
            <a:ext cx="2552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Révision des verbes irréguliers du poèm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Mettre, je me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j’ai m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Boire, il b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 a b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Faire, vous fai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vous avez fa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Prendre, ils prenn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s ont pr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10"/>
              </a:rPr>
              <a:t>Exercice 5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(fiche pédagogiq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mots-crois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Jeu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 pour deux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équip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Interpré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Les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sit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interne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sur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Préver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7"/>
              </a:rPr>
              <a:t> à faire à la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maison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c893e"/>
                </a:solidFill>
                <a:uFillTx/>
                <a:latin typeface="Arial"/>
              </a:rPr>
              <a:t>Devoir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A) Finissez les mots-croisés à la mais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B) La femme est partie chez une amie et écrit une lettre à son mar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Qu’est-ce que c’est 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C’est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café / le café (au lait)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tasse / une tasse (de café) (au lai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sucre / le suc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lait / le la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petite cuiller /</a:t>
            </a:r>
            <a:r>
              <a:rPr b="0" lang="fr-FR" sz="3200" spc="-1" strike="noStrike" u="sng">
                <a:solidFill>
                  <a:srgbClr val="2f1311"/>
                </a:solidFill>
                <a:uFillTx/>
                <a:latin typeface="Arial"/>
              </a:rPr>
              <a:t>cuillère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/ la cuillè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cigar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endri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hapea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manteau de plui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tourner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boi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reposer la tasse                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allumer  (une cigarette)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faire des ronds avec la fumée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s cendre(s) de cigaret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dans un cendri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4040" y="3056040"/>
            <a:ext cx="175284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chapeau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manteau de plu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265720" y="3354480"/>
            <a:ext cx="115272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rendre la tête dans sa 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leur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78360" y="3013200"/>
            <a:ext cx="19224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Exercice d‘associ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Exercice 1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</a:rPr>
              <a:t>(exercice d’associ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4"/>
              </a:rPr>
              <a:t>Exercice 2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(Mettez dans l’ordr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6"/>
              </a:rPr>
              <a:t>Exercice 3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8"/>
              </a:rPr>
              <a:t>Exercice 4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Mettez le poème au </a:t>
            </a:r>
            <a:br>
              <a:rPr sz="3600"/>
            </a:b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passé composé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Révi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nfinitif du verbe „être“ ou „avoir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+ participe pass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xemple: mettre – mis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je met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j’ai mi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8:21:50Z</dcterms:created>
  <dc:creator>user1</dc:creator>
  <dc:description/>
  <dc:language>en-US</dc:language>
  <cp:lastModifiedBy>user1</cp:lastModifiedBy>
  <dcterms:modified xsi:type="dcterms:W3CDTF">2003-12-05T15:45:07Z</dcterms:modified>
  <cp:revision>25</cp:revision>
  <dc:subject/>
  <dc:title>Jacques Prévert, Déjeuner du matin </dc:title>
</cp:coreProperties>
</file>