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B36-6D11-4A89-8DB9-E527AC4C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005-AC3C-4CD6-B583-2DB99B1B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15F-D423-4D55-BB9A-70F0C546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DBA-A384-4F4F-80E2-95912FB5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7C94-B4B2-49AE-90D9-8FF35F22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3075-825F-4ADF-B5BC-B25452A3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5833-2AF5-43F2-8F95-11E6091A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5939-6958-4CCC-AA0F-00C4EE4F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0343-BA5F-4F99-A2A9-402B0A48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BDD7-7878-44B8-AD7A-05D32060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8B54-3E48-45FD-B748-5C61A7C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B71-3B33-4E8E-81F6-4790AC2C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0E1F-231F-4F6C-8D43-A5B17E11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FFDF-4DF4-441F-80FC-F0904E7C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8E13-EEB4-4B59-9FE0-F70D5742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97DF-958D-4B09-9CED-FFDC11E5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1608-E89B-4324-A105-8B3B1B24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5AA-0914-4FDB-BDD7-504F80F1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822-B5A0-4AEA-B83D-368D1B11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49A-6B9E-4585-A01A-97AD6664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5E8-4300-453D-AF78-958B1517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EFD-E946-46FE-A968-4FCF1C1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391-AE80-4BAD-AA37-F05627EC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95E-F72B-4092-BF6D-FD1B43B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6902-2FA5-4567-A630-823147B57C9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27AF-0A7F-4F5A-86BD-3103E7DC1A3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hyperlink" Target="file:///trou5.htm" TargetMode="Externa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cross4.htm" TargetMode="External"/><Relationship Id="rId3" Type="http://schemas.openxmlformats.org/officeDocument/2006/relationships/hyperlink" Target="file:///cross4.htm" TargetMode="External"/><Relationship Id="rId4" Type="http://schemas.openxmlformats.org/officeDocument/2006/relationships/hyperlink" Target="file:///cross4.htm" TargetMode="External"/><Relationship Id="rId5" Type="http://schemas.openxmlformats.org/officeDocument/2006/relationships/hyperlink" Target="file:///cross4.htm" TargetMode="External"/><Relationship Id="rId6" Type="http://schemas.openxmlformats.org/officeDocument/2006/relationships/image" Target="../media/image3.png"/><Relationship Id="rId7" Type="http://schemas.openxmlformats.org/officeDocument/2006/relationships/hyperlink" Target="file:///analyse.htm" TargetMode="External"/><Relationship Id="rId8" Type="http://schemas.openxmlformats.org/officeDocument/2006/relationships/image" Target="../media/image3.png"/><Relationship Id="rId9" Type="http://schemas.openxmlformats.org/officeDocument/2006/relationships/hyperlink" Target="file:///dejeuner.htm" TargetMode="External"/><Relationship Id="rId10" Type="http://schemas.openxmlformats.org/officeDocument/2006/relationships/hyperlink" Target="file:///dejeuner.htm" TargetMode="External"/><Relationship Id="rId11" Type="http://schemas.openxmlformats.org/officeDocument/2006/relationships/hyperlink" Target="file:///dejeuner.htm" TargetMode="External"/><Relationship Id="rId12" Type="http://schemas.openxmlformats.org/officeDocument/2006/relationships/hyperlink" Target="file:///dejeuner.htm" TargetMode="External"/><Relationship Id="rId13" Type="http://schemas.openxmlformats.org/officeDocument/2006/relationships/hyperlink" Target="file:///dejeuner.htm" TargetMode="External"/><Relationship Id="rId14" Type="http://schemas.openxmlformats.org/officeDocument/2006/relationships/hyperlink" Target="file:///dejeuner.htm" TargetMode="External"/><Relationship Id="rId15" Type="http://schemas.openxmlformats.org/officeDocument/2006/relationships/hyperlink" Target="file:///dejeuner.htm" TargetMode="External"/><Relationship Id="rId16" Type="http://schemas.openxmlformats.org/officeDocument/2006/relationships/hyperlink" Target="file:///dejeuner.htm" TargetMode="External"/><Relationship Id="rId17" Type="http://schemas.openxmlformats.org/officeDocument/2006/relationships/hyperlink" Target="file:///dejeuner.htm" TargetMode="External"/><Relationship Id="rId18" Type="http://schemas.openxmlformats.org/officeDocument/2006/relationships/hyperlink" Target="file:///dejeuner.htm" TargetMode="External"/><Relationship Id="rId19" Type="http://schemas.openxmlformats.org/officeDocument/2006/relationships/hyperlink" Target="file:///dejeuner.htm" TargetMode="External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repchoix3.htm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pre72.htm" TargetMode="External"/><Relationship Id="rId5" Type="http://schemas.openxmlformats.org/officeDocument/2006/relationships/image" Target="../media/image3.png"/><Relationship Id="rId6" Type="http://schemas.openxmlformats.org/officeDocument/2006/relationships/hyperlink" Target="file:///pre73.htm" TargetMode="External"/><Relationship Id="rId7" Type="http://schemas.openxmlformats.org/officeDocument/2006/relationships/image" Target="../media/image3.png"/><Relationship Id="rId8" Type="http://schemas.openxmlformats.org/officeDocument/2006/relationships/hyperlink" Target="file:///pre74.htm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95400" y="2570040"/>
            <a:ext cx="2152440" cy="2552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64080" y="2373480"/>
            <a:ext cx="25527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Révision des verbes irréguliers du poèm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Mettre, je me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j’ai m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Boire, il bo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 a b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Faire, vous fai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vous avez fa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Prendre, ils prenn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s ont pr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10"/>
              </a:rPr>
              <a:t>Exercice 5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(fiche pédagogiq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mots-crois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Jeu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 pour deux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équip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Interpré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Les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sit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1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interne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3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sur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5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Préver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7"/>
              </a:rPr>
              <a:t> à faire à la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maison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!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c893e"/>
                </a:solidFill>
                <a:uFillTx/>
                <a:latin typeface="Arial"/>
              </a:rPr>
              <a:t>Devoir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A) Finissez les mots-croisés à la mais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B) La femme est partie chez une amie et écrit une lettre à son mar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Qu’est-ce que c’est 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C’est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café / le café (au lait)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la tasse / une tasse (de café) (au lait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sucre / le suc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lait / le la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petite cuiller /</a:t>
            </a:r>
            <a:r>
              <a:rPr b="0" lang="fr-FR" sz="3200" spc="-1" strike="noStrike" u="sng">
                <a:solidFill>
                  <a:srgbClr val="2f1311"/>
                </a:solidFill>
                <a:uFillTx/>
                <a:latin typeface="Arial"/>
              </a:rPr>
              <a:t>cuillère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/ la cuillè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cigaret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endri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hapea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manteau de plui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tourner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boi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reposer la tasse                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allumer  (une cigarette)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faire des ronds avec la fumée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s cendre(s) de cigaret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dans un cendri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964040" y="3056040"/>
            <a:ext cx="1752840" cy="157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se lev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chapeau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manteau de plui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arti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265720" y="3354480"/>
            <a:ext cx="1152720" cy="9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rendre la tête dans sa m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leur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878360" y="3013200"/>
            <a:ext cx="192240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Exercice d‘associ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Exercice 1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</a:rPr>
              <a:t>(exercice d’association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4"/>
              </a:rPr>
              <a:t>Exercice 2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(Mettez dans l’ordr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6"/>
              </a:rPr>
              <a:t>Exercice 3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8"/>
              </a:rPr>
              <a:t>Exercice 4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Mettez le poème au </a:t>
            </a:r>
            <a:br>
              <a:rPr sz="3600"/>
            </a:b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passé composé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Révi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Infinitif du verbe „être“ ou „avoir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+ participe pass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Exemple: mettre – mis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je met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j’ai mi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8:21:50Z</dcterms:created>
  <dc:creator>user1</dc:creator>
  <dc:description/>
  <dc:language>en-US</dc:language>
  <cp:lastModifiedBy>user1</cp:lastModifiedBy>
  <dcterms:modified xsi:type="dcterms:W3CDTF">2003-12-05T15:45:07Z</dcterms:modified>
  <cp:revision>25</cp:revision>
  <dc:subject/>
  <dc:title>Jacques Prévert, Déjeuner du matin </dc:title>
</cp:coreProperties>
</file>