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EC7-D396-492E-8F8B-1D2AA467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AD5-9CB7-4D14-ACA7-F16E6BB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711-819D-4645-9393-BD1B3C08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48A-6CB2-4C86-AF9E-7B63FCEB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D663-C2DD-4503-A63B-69671743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655F-0B3B-4501-8D42-D4DDB5B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C721-5F2E-4AC9-88C6-68C51C4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A1C5-9E9D-4511-AA26-49063415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3440-9317-4EA2-BF00-DE71E3A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A37C-42FC-47B8-B09B-4C412AC3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EC1-2DEF-4BFC-AAE2-CCF443D0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844-8A50-4201-835E-B4C6DF21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061F-B720-4160-9A48-EB8DEBC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2ADC-1EAB-4AA7-93AD-CCDC1039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1E58-D946-4595-82A6-D9B56F94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2F3-70B4-4DB8-B723-8DB9ECE0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6FC-8FF0-46C8-A99B-44738779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DEE-4D36-4296-9E24-B038B140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078-1A2E-4801-B1C4-E40CAD54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0C8-313D-4C34-AFDA-FC833A85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6A3-5E6B-4250-8EA0-9621844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D07-0F67-4A3F-A4D4-08DBAAB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386-87DE-415E-AE50-77594B45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75F-5335-4E7A-874B-8C34FF9F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0CE-501E-4669-809B-D2AFC7D082F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AB16-EB6B-4E4C-A279-1B05BC45FDE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file:///trou5.htm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ross4.htm" TargetMode="External"/><Relationship Id="rId3" Type="http://schemas.openxmlformats.org/officeDocument/2006/relationships/hyperlink" Target="file:///cross4.htm" TargetMode="External"/><Relationship Id="rId4" Type="http://schemas.openxmlformats.org/officeDocument/2006/relationships/hyperlink" Target="file:///cross4.htm" TargetMode="External"/><Relationship Id="rId5" Type="http://schemas.openxmlformats.org/officeDocument/2006/relationships/hyperlink" Target="file:///cross4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analyse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dejeuner.htm" TargetMode="External"/><Relationship Id="rId10" Type="http://schemas.openxmlformats.org/officeDocument/2006/relationships/hyperlink" Target="file:///dejeuner.htm" TargetMode="External"/><Relationship Id="rId11" Type="http://schemas.openxmlformats.org/officeDocument/2006/relationships/hyperlink" Target="file:///dejeuner.htm" TargetMode="External"/><Relationship Id="rId12" Type="http://schemas.openxmlformats.org/officeDocument/2006/relationships/hyperlink" Target="file:///dejeuner.htm" TargetMode="External"/><Relationship Id="rId13" Type="http://schemas.openxmlformats.org/officeDocument/2006/relationships/hyperlink" Target="file:///dejeuner.htm" TargetMode="External"/><Relationship Id="rId14" Type="http://schemas.openxmlformats.org/officeDocument/2006/relationships/hyperlink" Target="file:///dejeuner.htm" TargetMode="External"/><Relationship Id="rId15" Type="http://schemas.openxmlformats.org/officeDocument/2006/relationships/hyperlink" Target="file:///dejeuner.htm" TargetMode="External"/><Relationship Id="rId16" Type="http://schemas.openxmlformats.org/officeDocument/2006/relationships/hyperlink" Target="file:///dejeuner.htm" TargetMode="External"/><Relationship Id="rId17" Type="http://schemas.openxmlformats.org/officeDocument/2006/relationships/hyperlink" Target="file:///dejeuner.htm" TargetMode="External"/><Relationship Id="rId18" Type="http://schemas.openxmlformats.org/officeDocument/2006/relationships/hyperlink" Target="file:///dejeuner.htm" TargetMode="External"/><Relationship Id="rId19" Type="http://schemas.openxmlformats.org/officeDocument/2006/relationships/hyperlink" Target="file:///dejeuner.htm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pchoix3.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pre72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pre7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pre74.htm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5400" y="2570040"/>
            <a:ext cx="215244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4080" y="2373480"/>
            <a:ext cx="2552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Révision des verbes irréguliers du poèm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Mettre, je me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j’ai m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Boire, il b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 a b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Faire, vous fai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vous avez fa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Prendre, ils prenn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s ont pr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10"/>
              </a:rPr>
              <a:t>Exercice 5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(fiche pédagogiq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mots-crois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Jeu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 pour deux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équip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Interpré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Les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sit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interne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sur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Préver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7"/>
              </a:rPr>
              <a:t> à faire à la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maison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c893e"/>
                </a:solidFill>
                <a:uFillTx/>
                <a:latin typeface="Arial"/>
              </a:rPr>
              <a:t>Devoir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A) Finissez les mots-croisés à la mais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B) La femme est partie chez une amie et écrit une lettre à son mar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Qu’est-ce que c’est 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C’est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café / le café (au lait)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tasse / une tasse (de café) (au lai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sucre / le suc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lait / le la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petite cuiller /</a:t>
            </a:r>
            <a:r>
              <a:rPr b="0" lang="fr-FR" sz="3200" spc="-1" strike="noStrike" u="sng">
                <a:solidFill>
                  <a:srgbClr val="2f1311"/>
                </a:solidFill>
                <a:uFillTx/>
                <a:latin typeface="Arial"/>
              </a:rPr>
              <a:t>cuillère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/ la cuillè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cigar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endri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hapea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manteau de plui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tourner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boi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reposer la tasse                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allumer  (une cigarette)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faire des ronds avec la fumée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s cendre(s) de cigaret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dans un cendri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4040" y="3056040"/>
            <a:ext cx="175284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chapeau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manteau de plu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265720" y="3354480"/>
            <a:ext cx="115272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rendre la tête dans sa 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leur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78360" y="3013200"/>
            <a:ext cx="19224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Exercice d‘associ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Exercice 1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</a:rPr>
              <a:t>(exercice d’associ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4"/>
              </a:rPr>
              <a:t>Exercice 2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(Mettez dans l’ordr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6"/>
              </a:rPr>
              <a:t>Exercice 3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8"/>
              </a:rPr>
              <a:t>Exercice 4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Mettez le poème au </a:t>
            </a:r>
            <a:br>
              <a:rPr sz="3600"/>
            </a:b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passé composé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Révi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nfinitif du verbe „être“ ou „avoir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+ participe pass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xemple: mettre – mis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je met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j’ai mi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8:21:50Z</dcterms:created>
  <dc:creator>user1</dc:creator>
  <dc:description/>
  <dc:language>en-US</dc:language>
  <cp:lastModifiedBy>user1</cp:lastModifiedBy>
  <dcterms:modified xsi:type="dcterms:W3CDTF">2003-12-05T15:45:07Z</dcterms:modified>
  <cp:revision>25</cp:revision>
  <dc:subject/>
  <dc:title>Jacques Prévert, Déjeuner du matin </dc:title>
</cp:coreProperties>
</file>