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gif" ContentType="image/gif"/>
  <Override PartName="/ppt/media/image10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39A7-CAC5-4402-B825-08408890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9150-A8A0-4008-B78B-C0CB918C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8BEE-1635-462F-83DA-1B9BB3D9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0F68-628A-45A0-B9F5-1F0EF622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DBDF-3829-4F61-8F3F-A4C141B1C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EC90-1406-40B3-B8E5-D7656E83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EC59-A763-4094-8FE1-5BBB233C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6313-3D9B-478E-82A3-5FEC2865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3A0E-246E-4080-8AC0-3952CF9C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DCD6-9632-4B83-A8C5-29C05EB8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9D4D-7F33-4FBC-86BC-F30CA7E9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51F-7365-42A8-8942-3887C4DF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52E2-05A1-4362-8000-59FBF06F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6002-040D-41D9-91EA-893F9681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3C4D-F086-4C27-9203-14ED9684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84B8-9E0E-404D-AA9D-E55E1AA6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EDCB-F796-40D5-8D78-03D143E7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F9DA-0573-43EB-A162-F2F7349C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937E-1296-46FF-B535-47780E85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3CAD-A38B-4333-A0CC-46C035AA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3E17-DC84-4AF9-A635-F5879B80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ADD1-2645-4E17-8E6A-BB8E4902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407E-A32C-4CA0-9AAB-92ECBC12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9BD0-A513-436C-B409-334D4B60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343A-DDF2-45D9-9D18-8E62F97BCEAD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0CA7-97C3-4BD2-BAF9-C39328B9A9F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hyperlink" Target="file:///trou5.htm" TargetMode="External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cross4.htm" TargetMode="External"/><Relationship Id="rId3" Type="http://schemas.openxmlformats.org/officeDocument/2006/relationships/hyperlink" Target="file:///cross4.htm" TargetMode="External"/><Relationship Id="rId4" Type="http://schemas.openxmlformats.org/officeDocument/2006/relationships/hyperlink" Target="file:///cross4.htm" TargetMode="External"/><Relationship Id="rId5" Type="http://schemas.openxmlformats.org/officeDocument/2006/relationships/hyperlink" Target="file:///cross4.htm" TargetMode="External"/><Relationship Id="rId6" Type="http://schemas.openxmlformats.org/officeDocument/2006/relationships/image" Target="../media/image3.png"/><Relationship Id="rId7" Type="http://schemas.openxmlformats.org/officeDocument/2006/relationships/hyperlink" Target="file:///analyse.htm" TargetMode="External"/><Relationship Id="rId8" Type="http://schemas.openxmlformats.org/officeDocument/2006/relationships/image" Target="../media/image3.png"/><Relationship Id="rId9" Type="http://schemas.openxmlformats.org/officeDocument/2006/relationships/hyperlink" Target="file:///dejeuner.htm" TargetMode="External"/><Relationship Id="rId10" Type="http://schemas.openxmlformats.org/officeDocument/2006/relationships/hyperlink" Target="file:///dejeuner.htm" TargetMode="External"/><Relationship Id="rId11" Type="http://schemas.openxmlformats.org/officeDocument/2006/relationships/hyperlink" Target="file:///dejeuner.htm" TargetMode="External"/><Relationship Id="rId12" Type="http://schemas.openxmlformats.org/officeDocument/2006/relationships/hyperlink" Target="file:///dejeuner.htm" TargetMode="External"/><Relationship Id="rId13" Type="http://schemas.openxmlformats.org/officeDocument/2006/relationships/hyperlink" Target="file:///dejeuner.htm" TargetMode="External"/><Relationship Id="rId14" Type="http://schemas.openxmlformats.org/officeDocument/2006/relationships/hyperlink" Target="file:///dejeuner.htm" TargetMode="External"/><Relationship Id="rId15" Type="http://schemas.openxmlformats.org/officeDocument/2006/relationships/hyperlink" Target="file:///dejeuner.htm" TargetMode="External"/><Relationship Id="rId16" Type="http://schemas.openxmlformats.org/officeDocument/2006/relationships/hyperlink" Target="file:///dejeuner.htm" TargetMode="External"/><Relationship Id="rId17" Type="http://schemas.openxmlformats.org/officeDocument/2006/relationships/hyperlink" Target="file:///dejeuner.htm" TargetMode="External"/><Relationship Id="rId18" Type="http://schemas.openxmlformats.org/officeDocument/2006/relationships/hyperlink" Target="file:///dejeuner.htm" TargetMode="External"/><Relationship Id="rId19" Type="http://schemas.openxmlformats.org/officeDocument/2006/relationships/hyperlink" Target="file:///dejeuner.htm" TargetMode="External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repchoix3.htm" TargetMode="External"/><Relationship Id="rId3" Type="http://schemas.openxmlformats.org/officeDocument/2006/relationships/image" Target="../media/image3.png"/><Relationship Id="rId4" Type="http://schemas.openxmlformats.org/officeDocument/2006/relationships/hyperlink" Target="file:///pre72.htm" TargetMode="External"/><Relationship Id="rId5" Type="http://schemas.openxmlformats.org/officeDocument/2006/relationships/image" Target="../media/image3.png"/><Relationship Id="rId6" Type="http://schemas.openxmlformats.org/officeDocument/2006/relationships/hyperlink" Target="file:///pre73.htm" TargetMode="External"/><Relationship Id="rId7" Type="http://schemas.openxmlformats.org/officeDocument/2006/relationships/image" Target="../media/image3.png"/><Relationship Id="rId8" Type="http://schemas.openxmlformats.org/officeDocument/2006/relationships/hyperlink" Target="file:///pre74.htm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7d47d"/>
                </a:solidFill>
                <a:uFillTx/>
                <a:latin typeface="Arial"/>
              </a:rPr>
              <a:t>Jacques Prévert, Déjeuner du matin</a:t>
            </a: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95400" y="2570040"/>
            <a:ext cx="2152440" cy="25527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564080" y="2373480"/>
            <a:ext cx="25527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7d47d"/>
                </a:solidFill>
                <a:latin typeface="Arial"/>
              </a:rPr>
              <a:t>Révision des verbes irréguliers du poèm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f1311"/>
                </a:solidFill>
                <a:latin typeface="Arial"/>
              </a:rPr>
              <a:t>Mettre, je met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j’ai mi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Boire, il boi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il a bu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Faire, vous fait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vous avez fai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Prendre, ils prenne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ils ont pri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0b854"/>
                </a:solidFill>
                <a:uFillTx/>
                <a:latin typeface="Arial"/>
                <a:ea typeface="Arial"/>
                <a:hlinkClick r:id="rId10"/>
              </a:rPr>
              <a:t>Exercice 5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(fiche pédagogiqu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7d47d"/>
                </a:solidFill>
                <a:latin typeface="Arial"/>
              </a:rPr>
              <a:t>Les mots-croisé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Jeu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 pour deux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équipes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7"/>
              </a:rPr>
              <a:t>Interprét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9"/>
              </a:rPr>
              <a:t>Les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0"/>
              </a:rPr>
              <a:t>sites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1"/>
              </a:rPr>
              <a:t>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2"/>
              </a:rPr>
              <a:t>internet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3"/>
              </a:rPr>
              <a:t>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4"/>
              </a:rPr>
              <a:t>sur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5"/>
              </a:rPr>
              <a:t>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6"/>
              </a:rPr>
              <a:t>Prévert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7"/>
              </a:rPr>
              <a:t> à faire à la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8"/>
              </a:rPr>
              <a:t>maison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9"/>
              </a:rPr>
              <a:t>!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dc893e"/>
                </a:solidFill>
                <a:uFillTx/>
                <a:latin typeface="Arial"/>
              </a:rPr>
              <a:t>Devoirs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f1311"/>
                </a:solidFill>
                <a:latin typeface="Arial"/>
              </a:rPr>
              <a:t>A) Finissez les mots-croisés à la maison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f1311"/>
                </a:solidFill>
                <a:latin typeface="Arial"/>
              </a:rPr>
              <a:t>B) La femme est partie chez une amie et écrit une lettre à son mari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2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2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7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7d47d"/>
                </a:solidFill>
                <a:uFillTx/>
                <a:latin typeface="Arial"/>
              </a:rPr>
              <a:t>Jacques Prévert, Déjeuner du matin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d47d"/>
                </a:solidFill>
                <a:latin typeface="Arial"/>
              </a:rPr>
              <a:t>Qu’est-ce que c’est 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d47d"/>
                </a:solidFill>
                <a:latin typeface="Arial"/>
              </a:rPr>
              <a:t>C’est 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du café / le café (au lait)    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la tasse / une tasse (de café) (au lait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du sucre / le suc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du lait / le lai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une petite cuiller /</a:t>
            </a:r>
            <a:r>
              <a:rPr b="0" lang="fr-FR" sz="3200" spc="-1" strike="noStrike" u="sng">
                <a:solidFill>
                  <a:srgbClr val="2f1311"/>
                </a:solidFill>
                <a:uFillTx/>
                <a:latin typeface="Arial"/>
              </a:rPr>
              <a:t>cuillère</a:t>
            </a: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 / la cuillè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7d47d"/>
                </a:solidFill>
                <a:uFillTx/>
                <a:latin typeface="Arial"/>
              </a:rPr>
              <a:t>Jacques Prévert, Déjeuner du matin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une cigarett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un cendri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un chapeau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un manteau de plui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7d47d"/>
                </a:solidFill>
                <a:latin typeface="Arial"/>
              </a:rPr>
              <a:t>Les activité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mettre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tourner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boire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reposer la tasse                      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5051520" y="2971800"/>
            <a:ext cx="1579320" cy="1749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7d47d"/>
                </a:solidFill>
                <a:latin typeface="Arial"/>
              </a:rPr>
              <a:t>Les activité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allumer  (une cigarette)  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faire des ronds avec la fumée               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mettre les cendre(s) de cigarett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dans un cendri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4964040" y="3056040"/>
            <a:ext cx="1752840" cy="157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7d47d"/>
                </a:solidFill>
                <a:latin typeface="Arial"/>
              </a:rPr>
              <a:t>Les activité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se lev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mettre le chapeau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mettre le manteau de plui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parti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5265720" y="3354480"/>
            <a:ext cx="1152720" cy="98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7d47d"/>
                </a:solidFill>
                <a:latin typeface="Arial"/>
              </a:rPr>
              <a:t>Les activités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prendre la tête dans sa mai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pleur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878360" y="3013200"/>
            <a:ext cx="1922400" cy="16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7d47d"/>
                </a:solidFill>
                <a:latin typeface="Arial"/>
              </a:rPr>
              <a:t>Exercice d‘associa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→</a:t>
            </a: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fr-FR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Exercice 1</a:t>
            </a: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f1311"/>
                </a:solidFill>
                <a:latin typeface="Arial"/>
              </a:rPr>
              <a:t>(exercice d’association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3200" spc="-1" strike="noStrike" u="sng">
                <a:solidFill>
                  <a:srgbClr val="f0b854"/>
                </a:solidFill>
                <a:uFillTx/>
                <a:latin typeface="Arial"/>
                <a:ea typeface="Arial"/>
                <a:hlinkClick r:id="rId4"/>
              </a:rPr>
              <a:t>Exercice 2</a:t>
            </a: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2f1311"/>
                </a:solidFill>
                <a:latin typeface="Arial"/>
                <a:ea typeface="Arial"/>
              </a:rPr>
              <a:t>(Mettez dans l’ordr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3200" spc="-1" strike="noStrike" u="sng">
                <a:solidFill>
                  <a:srgbClr val="f0b854"/>
                </a:solidFill>
                <a:uFillTx/>
                <a:latin typeface="Arial"/>
                <a:ea typeface="Arial"/>
                <a:hlinkClick r:id="rId6"/>
              </a:rPr>
              <a:t>Exercice 3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3200" spc="-1" strike="noStrike" u="sng">
                <a:solidFill>
                  <a:srgbClr val="f0b854"/>
                </a:solidFill>
                <a:uFillTx/>
                <a:latin typeface="Arial"/>
                <a:ea typeface="Arial"/>
                <a:hlinkClick r:id="rId8"/>
              </a:rPr>
              <a:t>Exercice 4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9"/>
          <a:stretch/>
        </p:blipFill>
        <p:spPr>
          <a:xfrm>
            <a:off x="5051520" y="2971800"/>
            <a:ext cx="1579320" cy="1749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7d47d"/>
                </a:solidFill>
                <a:latin typeface="Arial"/>
              </a:rPr>
              <a:t>Mettez le poème au </a:t>
            </a:r>
            <a:br>
              <a:rPr sz="3600"/>
            </a:br>
            <a:r>
              <a:rPr b="0" lang="de-DE" sz="3600" spc="-1" strike="noStrike">
                <a:solidFill>
                  <a:srgbClr val="f7d47d"/>
                </a:solidFill>
                <a:latin typeface="Arial"/>
              </a:rPr>
              <a:t>passé composé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Révis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Infinitif du verbe „être“ ou „avoir“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+ participe passé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Exemple: mettre – mis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je mets le café dans la tass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j’ai mis le café dans la tass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8T18:21:50Z</dcterms:created>
  <dc:creator>user1</dc:creator>
  <dc:description/>
  <dc:language>en-US</dc:language>
  <cp:lastModifiedBy>user1</cp:lastModifiedBy>
  <dcterms:modified xsi:type="dcterms:W3CDTF">2003-12-05T15:45:07Z</dcterms:modified>
  <cp:revision>25</cp:revision>
  <dc:subject/>
  <dc:title>Jacques Prévert, Déjeuner du matin </dc:title>
</cp:coreProperties>
</file>